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6F76-BE9F-4C24-963E-8892DFDB5D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 bifurkačního diagramu logistického zobraze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C2FA-5B3F-4CD3-9897-B320D12F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45B5-0F88-44EA-A7B5-5D190E95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7680-4EE3-4166-948D-51C8AA19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7767-6D5E-46DA-A718-12313B14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EEC2-6139-4FA4-A565-1743301F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290-5B47-414E-88B1-DE9B5539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C87A-A2CA-4477-AE7F-38132A67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31F2-378D-4991-A09E-4E5446E0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FF78-0C77-4E1F-A3C9-9609F7E4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423E-1351-4417-8CBF-01DF0D83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D2C-8573-4CA9-83FE-451DF0AD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918E-2DFF-491E-90F5-B5853657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3CAA-5A82-4D5D-9FFA-95DFAE4CE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vání logistického zobrazen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1440" y="1600200"/>
            <a:ext cx="273384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00640" y="1600200"/>
            <a:ext cx="273384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440000" y="3938760"/>
            <a:ext cx="2735280" cy="2187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299200" y="3938760"/>
            <a:ext cx="2735280" cy="218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2751120" y="765000"/>
          <a:ext cx="3640320" cy="50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51120" y="765000"/>
                    <a:ext cx="3640320" cy="5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175280" y="2349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75280" y="4724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0" y="2189160"/>
            <a:ext cx="144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ionární bo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4496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cionární bod 1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2040" y="630864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asový průbě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08720" y="6308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mereyovo schodiš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odická okna logistického zobraz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86000" y="1600200"/>
            <a:ext cx="273348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00640" y="1600200"/>
            <a:ext cx="273384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384200" y="3938760"/>
            <a:ext cx="2735280" cy="2187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299200" y="3938760"/>
            <a:ext cx="2735280" cy="2187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54560" y="23493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3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4560" y="4764240"/>
            <a:ext cx="9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49360"/>
            <a:ext cx="13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a 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581360"/>
            <a:ext cx="13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a 4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vání logistického zobraz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58840" y="1600200"/>
            <a:ext cx="273384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058840" y="3997440"/>
            <a:ext cx="2735280" cy="2187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951520" y="3938760"/>
            <a:ext cx="2735280" cy="2187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952960" y="1600200"/>
            <a:ext cx="2733840" cy="2185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794120" y="242100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94120" y="47242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2920" y="242100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a 8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700520"/>
            <a:ext cx="90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476600" y="3365640"/>
          <a:ext cx="190800" cy="12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6600" y="3365640"/>
                    <a:ext cx="190800" cy="12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79280" y="5146560"/>
          <a:ext cx="156708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5146560"/>
                    <a:ext cx="15670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ur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ační diagram log. zobraz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41320" y="1600200"/>
            <a:ext cx="5659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3230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297560" y="5227560"/>
            <a:ext cx="1710000" cy="136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1710000" cy="1366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050920" y="3860640"/>
            <a:ext cx="1687680" cy="1349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303800" y="5210280"/>
            <a:ext cx="1687320" cy="134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227640" y="3583080"/>
            <a:ext cx="1687680" cy="1349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>
            <a:off x="178920" y="1268280"/>
            <a:ext cx="107964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888920" y="1268280"/>
            <a:ext cx="16164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738600" y="1844640"/>
            <a:ext cx="1409760" cy="201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1268280"/>
            <a:ext cx="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303800" y="1844640"/>
            <a:ext cx="844560" cy="3365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060640"/>
            <a:ext cx="195120" cy="3166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2060640"/>
            <a:ext cx="431640" cy="1522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91120" y="2060640"/>
            <a:ext cx="1924200" cy="1522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91120" y="2060640"/>
            <a:ext cx="1306440" cy="314964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893080" y="3068640"/>
            <a:ext cx="114480" cy="214164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iodické okno v chaotické oblasti logistického zobraz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41320" y="1600200"/>
            <a:ext cx="5659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63640" y="7650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uvedený způsob (scénář) přechodu k chaosu platí pro jistou třídu 1-D zobrazení s jedním maximem + požadavkem na Schvarci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3640" y="2421000"/>
            <a:ext cx="26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6:42:54Z</dcterms:created>
  <dc:creator>User</dc:creator>
  <dc:description/>
  <dc:language>en-US</dc:language>
  <cp:lastModifiedBy>User</cp:lastModifiedBy>
  <dcterms:modified xsi:type="dcterms:W3CDTF">2005-05-10T15:06:32Z</dcterms:modified>
  <cp:revision>6</cp:revision>
  <dc:subject/>
  <dc:title>chování logistického zobrazení </dc:title>
</cp:coreProperties>
</file>