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08AF-8C88-408B-807E-CBC3517437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or na správnou volbu parame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443-7DD1-4997-B378-B661B35C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4B4-2DC6-43C2-9D53-EC0320B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85C-A769-4960-8F04-8E9B28CC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4C7-BB29-4E61-B509-EABDDF0E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5B4-C48D-422C-BCC9-64D36836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17C-06D2-43EA-9A71-34369394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6A0-3ACB-4511-8ADA-8661D2CB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6FA-C9C5-4A90-8D77-CCCF83A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35A-55C2-4B2C-A173-A2A9390F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2CB-C9EA-4ED1-BE0D-603BABA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190-389A-482E-B780-008395EC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44A-436D-4E02-826C-2008CF7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D33-B04E-458F-8D9E-744AEDED6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94464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Deterministický chaos</a:t>
            </a:r>
            <a:br>
              <a:rPr sz="4400"/>
            </a:b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-</a:t>
            </a:r>
            <a:br>
              <a:rPr sz="4400"/>
            </a:b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ru</a:t>
            </a: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čný (subjektivní) 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 Raidl, Jiří Mikš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Matematicko-fyzikální fak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Univerzita Karlova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657360"/>
            <a:ext cx="74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50800"/>
            <a:ext cx="86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mají dynamické systémy (DS), které jsme si ukázali, společné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3280" y="2006640"/>
                <a:ext cx="12272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9280" y="2787480"/>
                <a:ext cx="1281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610000" y="2006640"/>
                <a:ext cx="121572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72000" y="2556000"/>
                <a:ext cx="1871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26280" y="2006640"/>
                <a:ext cx="14320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49280" y="3743280"/>
            <a:ext cx="8255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poměrně jednodu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trivi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řešení, které nemůžeme zapsat v uzavřeném tvaru, nějakého vzorce, řadu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deterministic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obsahují žádný zdroj nahodil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nelineár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ou se chovat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chaotic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ři „spravných“ parametr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6920" y="50450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337644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66920" y="5411880"/>
                <a:ext cx="4311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á trajektorie je chaotick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jektorie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, kde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í počáteční podmínku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S 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e chaotic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á jestli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je pr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 ohraničená (omeze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má alespoň jeden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kladný Ljapunovův ex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není asymptotický periodická ani nekonverguje k pevnému b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9280" y="6230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: formálních definic je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ěco srozumitelně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hraniče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rajektorie – rozumný fyzikální předpoklad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ručuje, že se s hodnotami proměnných nedostaneme do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stejně vynález matematiků, nikoliv fyzi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ladný Ljapunovův expone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citlivou závislost na volbu počátečních podmínek (efekt motýlích křídel);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fundamentální atribut cha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periodič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eopakovatelnost chování – nikdy bychom se neměli dostat do stavu, ve kterém jsme již byl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(potíž při měření – konečná přesnost měřících přístrojů, počítačové experimenty – konečná aritmetika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otázka: je tedy možné na počítači simulovat chaotické chování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livá závislost na počáteční podmínky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 středověké řík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5100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hřebík, neměl podkov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podkovu, neměl ko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koně, neměl jezd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jezdce, prohrál bitv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hrál bitvu, přišel o královstv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280" y="576900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ěco podobného, i když z menšími následky, když ráno nestíhám autobus do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840" y="50943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274320"/>
            <a:ext cx="76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ekt motýlích kří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9520" y="1417320"/>
            <a:ext cx="75358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zovo žertovné přirovnání o tom, že mávnutí motýlích křídel nad Brazílií může způsobit tornádo nad Mexi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43640" y="274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8240" y="3429000"/>
            <a:ext cx="771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7360" y="309420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ůsledek chaosu pro předpověd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4146480"/>
            <a:ext cx="8369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nám-li přesně počáteční podmínky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muhu provádět (úspěšně) „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dlouhodob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předpově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obně i u přesnosti výpoč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pověď „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krátkodob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je mož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073 -0.03615 C -0.7573 9.38585999997466E-007 -0.7875 0.03615 -0.80087 0.08204 C -0.81407 0.13163 -0.82101 0.19073 -0.82744 0.24983 C -0.83421 0.30892 -0.82744 0.35852 -0.82101 0.41298 C -0.81407 0.46327 -0.80435 0.51773 -0.78056 0.56269 C -0.76094 0.60834 -0.72726 0.6445 -0.69063 0.67207 C -0.65712 0.69896 -0.61719 0.71703 -0.57726 0.72653 C -0.53716 0.73534 -0.49723 0.73534 -0.46025 0.72653 C -0.42014 0.71703 -0.38386 0.69432 -0.35365 0.65794 C -0.32344 0.62642 -0.29671 0.5854 -0.28351 0.5358 C -0.26667 0.49015 -0.26042 0.42711 -0.26042 0.37659 C -0.25678 0.327 -0.26042 0.2679 -0.27709 0.21831 C -0.29341 0.17265 -0.32344 0.13627 -0.36337 0.11819 C -0.404 0.10475 -0.44393 0.12283 -0.47066 0.15434 C -0.49375 0.18586 -0.5106 0.23638 -0.51407 0.29478 C -0.51407 0.35388 -0.5106 0.40811 -0.49375 0.454 C -0.47709 0.49965 -0.48039 0.50823 -0.41372 0.56732 C -0.35365 0.63129 -0.29341 0.61298 -0.25678 0.61692 C -0.22032 0.61692 -0.19011 0.59884 -0.15365 0.58076 C -0.1132 0.55875 -0.08004 0.51773 -0.05625 0.48157 C -0.03333 0.44519 -0.02327 0.39954 -0.01007 0.327 C 4.9999999999998E-006 0.25446 5E-006 0.21831 5E-006 0.16315 C 5E-006 0.10869 5E-006 0.05446 5E-006 9.38586E-007 E">
                                      <p:cBhvr>
                                        <p:cTn id="75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vislost na volbě počátečních podmínek pro Lorenzův systé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3952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71640" y="1600200"/>
            <a:ext cx="5399280" cy="390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1520" y="5508720"/>
            <a:ext cx="785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čáteční podmínky se liší jen o 0,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5,80; -17,48; 35,64)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-15,79; -17,48; 35,6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52680" y="1346040"/>
            <a:ext cx="4309920" cy="510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7280" y="4190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prostření „chuchvalce“ počátečních podmínek po Lorenzově atrak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7360" y="274680"/>
            <a:ext cx="422928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640" y="140328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odilá posloupnost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dy kostk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6640" y="3789360"/>
            <a:ext cx="22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terministická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otická posloupnost (logistická rov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6640" y="4365720"/>
            <a:ext cx="220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26080" y="5398920"/>
                <a:ext cx="2387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hodně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volen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FEA-CC04-45EA-BB65-27A3DC9B925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7790040" y="-5500800"/>
            <a:ext cx="359892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4160" y="1868400"/>
            <a:ext cx="4317840" cy="31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72000" y="1832040"/>
            <a:ext cx="4317840" cy="319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6280" y="5319720"/>
            <a:ext cx="319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06640" y="5103720"/>
                <a:ext cx="12812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,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66640" y="5273640"/>
            <a:ext cx="28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énonovo zobraz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7000" y="52293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slerův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5499000"/>
            <a:ext cx="184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12000" y="4915080"/>
                <a:ext cx="146844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847880"/>
            <a:ext cx="4317840" cy="31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1855800"/>
            <a:ext cx="4317840" cy="314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9280" y="5581800"/>
                <a:ext cx="1914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411280" y="5499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6280" y="554364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e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86640" y="5499000"/>
            <a:ext cx="20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47000" y="50497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51280" y="563400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50800"/>
            <a:ext cx="83534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sv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ětlení nečekaně divokého a nepravidelného chování v době před chaos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le jen B.C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 (měření) znehodnocen např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ější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u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dné měřící pří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tava pod vlivem velkého množství stupňů volnosti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se nepodařilo během experimentu dostatečn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d.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věr: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pokus se nezdaři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 by tomu as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kli učitelé při školních laboratorních prací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37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čekávalo se, zvláště u disipativních systémů, že se divoké chování po čase ustálí – viz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„Lorenzova hydrodynamická historka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připomínka známých skutečnost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48080" y="1719360"/>
            <a:ext cx="2974680" cy="218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32360" y="1719360"/>
            <a:ext cx="2854440" cy="2184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04960" y="407664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11840" y="4076640"/>
            <a:ext cx="2874960" cy="218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124000"/>
            <a:ext cx="20257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 posloupnost       (3 nezávislé frekv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000" y="4616280"/>
            <a:ext cx="2430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hodná posloupnost čísel s normálním rozdělení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30560" y="1600200"/>
            <a:ext cx="3027240" cy="218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803920" y="1600200"/>
            <a:ext cx="2882880" cy="218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30560" y="3936960"/>
            <a:ext cx="3008160" cy="21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803920" y="3936960"/>
            <a:ext cx="2886120" cy="218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243160"/>
            <a:ext cx="1954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560" y="4543560"/>
            <a:ext cx="1944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(stavové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99200" y="2338560"/>
            <a:ext cx="2735280" cy="218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84280" y="4886280"/>
                <a:ext cx="1243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547640" y="1782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35520" y="1782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5146560"/>
            <a:ext cx="104436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5772240"/>
            <a:ext cx="1579320" cy="61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778280" y="4705200"/>
                <a:ext cx="1917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948360" y="5048280"/>
            <a:ext cx="6843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51880" y="5637240"/>
            <a:ext cx="13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81960" y="5772240"/>
            <a:ext cx="2139840" cy="707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17720" y="2338560"/>
            <a:ext cx="2914560" cy="21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563840"/>
            <a:ext cx="4038480" cy="321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563840"/>
            <a:ext cx="4038480" cy="3217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119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ssl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1197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6200" y="4915080"/>
                <a:ext cx="1216080" cy="13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697040" y="558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08200" y="5197320"/>
            <a:ext cx="1697040" cy="78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648320" y="47815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020000" y="5267160"/>
            <a:ext cx="18828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6360" y="4781520"/>
            <a:ext cx="593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26360" y="5908680"/>
            <a:ext cx="59364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6360" y="6445080"/>
            <a:ext cx="43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ozor: </a:t>
            </a:r>
            <a:r>
              <a:rPr b="0" i="1" lang="en-US" sz="1200" spc="-1" strike="noStrike">
                <a:solidFill>
                  <a:srgbClr val="ff3300"/>
                </a:solidFill>
                <a:latin typeface="Times New Roman"/>
              </a:rPr>
              <a:t>X,Y,Z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ejsou souřadnice našeho „běžného“ 3D prost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4:25:01Z</dcterms:created>
  <dc:creator>User</dc:creator>
  <dc:description/>
  <dc:language>en-US</dc:language>
  <cp:lastModifiedBy>User</cp:lastModifiedBy>
  <dcterms:modified xsi:type="dcterms:W3CDTF">2004-03-03T02:35:31Z</dcterms:modified>
  <cp:revision>36</cp:revision>
  <dc:subject/>
  <dc:title>Deterministický chaos v časových řadách</dc:title>
</cp:coreProperties>
</file>