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C59D-AE7D-4F15-A980-7C99190F16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zor na správnou volbu paramet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2F1-B5B3-4BB9-9DD8-6DEDE1768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EC5E-A1DB-459A-BE5D-08874207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BD3-D373-4FB5-AC65-645309CB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DBB-0DC7-47CA-AD7D-19E23001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F5DA-4E88-47E1-BEFD-E08E03A6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FC6-B40B-45E9-A78B-07C07573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C52-A8DF-483E-BB0B-FEE90B0B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995-4838-421D-BCEC-1E73B175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6AB-5217-417A-9D20-7B8D1BDD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E71D-DFBF-4291-9E34-F29A66F6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C1F-92CE-4DBE-A1AC-65874B99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23F-5696-474A-A643-275D333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8C7C-4B2E-4EBB-96F4-C4741284B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wmf"/><Relationship Id="rId3" Type="http://schemas.openxmlformats.org/officeDocument/2006/relationships/image" Target="../media/image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944640"/>
            <a:ext cx="777240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3300"/>
                </a:solidFill>
                <a:latin typeface="Arial"/>
              </a:rPr>
              <a:t>Deterministický chaos</a:t>
            </a:r>
            <a:br>
              <a:rPr sz="4400"/>
            </a:br>
            <a:r>
              <a:rPr b="1" lang="cs-CZ" sz="4400" spc="-1" strike="noStrike">
                <a:solidFill>
                  <a:srgbClr val="ff3300"/>
                </a:solidFill>
                <a:latin typeface="Arial"/>
              </a:rPr>
              <a:t>-</a:t>
            </a:r>
            <a:br>
              <a:rPr sz="4400"/>
            </a:br>
            <a:r>
              <a:rPr b="1" lang="cs-CZ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stru</a:t>
            </a: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čný (subjektivní) ú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 Raidl, Jiří Mikšovsk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KM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Matematicko-fyzikální fak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Univerzita Karlova v Pra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71640" y="657360"/>
            <a:ext cx="74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50800"/>
            <a:ext cx="86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o mají dynamické systémy (DS), které jsme si ukázali, společnéh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3280" y="2006640"/>
                <a:ext cx="12272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49280" y="2787480"/>
                <a:ext cx="12812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610000" y="2006640"/>
                <a:ext cx="121572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572000" y="2556000"/>
                <a:ext cx="187164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dy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226280" y="2006640"/>
                <a:ext cx="143208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49280" y="3743280"/>
            <a:ext cx="82551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ou poměrně jednodu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jí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etriviál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řešení, které nemůžeme zapsat v uzavřeném tvaru, nějakého vzorce, řadu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deterministick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neobsahují žádný zdroj nahodil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ou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nelineár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hou se chovat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chaotic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ři „spravných“ parametre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66920" y="504504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3376440"/>
            <a:ext cx="28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66920" y="5411880"/>
                <a:ext cx="4311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á trajektorie je chaotick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ajektorie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, kde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ačí počáteční podmínku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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S d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je chaotic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á jestli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je pro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i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0 ohraničená (omezen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má alespoň jeden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kladný Ljapunovův ex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cs-CZ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není asymptotický periodická ani nekonverguje k pevnému b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9280" y="6230880"/>
            <a:ext cx="44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známka: formálních definic je ví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21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něco srozumitelně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3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hraniče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trajektorie – rozumný fyzikální předpoklad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ručuje, že se s hodnotami proměnných nedostaneme do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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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stejně vynález matematiků, nikoliv fyzi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ladný Ljapunovův exponen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citlivou závislost na volbu počátečních podmínek (efekt motýlích křídel);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fundamentální atribut chao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aperiodič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zn. neopakovatelnost chování – nikdy bychom se neměli dostat do stavu, ve kterém jsme již byli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9999"/>
                </a:solidFill>
                <a:latin typeface="Arial"/>
              </a:rPr>
              <a:t>(potíž při měření – konečná přesnost měřících přístrojů, počítačové experimenty – konečná aritmetika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; </a:t>
            </a:r>
            <a:r>
              <a:rPr b="0" lang="cs-CZ" sz="1800" spc="-1" strike="noStrike">
                <a:solidFill>
                  <a:srgbClr val="009999"/>
                </a:solidFill>
                <a:latin typeface="Arial"/>
              </a:rPr>
              <a:t>otázka: je tedy možné na počítači simulovat chaotické chování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1256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tlivá závislost na počáteční podmínky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 středověké řík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51000"/>
            <a:ext cx="822960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měl hřebík, neměl podkov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měl podkovu, neměl ko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měl koně, neměl jezd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měl jezdce, prohrál bitv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hrál bitvu, přišel o královstv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280" y="5769000"/>
            <a:ext cx="50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ěco podobného, i když z menšími následky, když ráno nestíhám autobus do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4840" y="50943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274320"/>
            <a:ext cx="76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ekt motýlích kří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9520" y="1417320"/>
            <a:ext cx="753588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enzovo žertovné přirovnání o tom, že mávnutí motýlích křídel nad Brazílií může způsobit tornádo nad Mexi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343640" y="2746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8240" y="3429000"/>
            <a:ext cx="771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7360" y="3094200"/>
            <a:ext cx="836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ůsledek chaosu pro předpověd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4146480"/>
            <a:ext cx="8369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znám-li přesně počáteční podmínky </a:t>
            </a:r>
            <a:r>
              <a:rPr b="0" lang="cs-CZ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muhu provádět (úspěšně) „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dlouhodobo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 předpově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obně i u přesnosti výpoč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pověď „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krátkodob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 je mož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path" presetID="6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3073 -0.03615 C -0.7573 9.38585999997466E-007 -0.7875 0.03615 -0.80087 0.08204 C -0.81407 0.13163 -0.82101 0.19073 -0.82744 0.24983 C -0.83421 0.30892 -0.82744 0.35852 -0.82101 0.41298 C -0.81407 0.46327 -0.80435 0.51773 -0.78056 0.56269 C -0.76094 0.60834 -0.72726 0.6445 -0.69063 0.67207 C -0.65712 0.69896 -0.61719 0.71703 -0.57726 0.72653 C -0.53716 0.73534 -0.49723 0.73534 -0.46025 0.72653 C -0.42014 0.71703 -0.38386 0.69432 -0.35365 0.65794 C -0.32344 0.62642 -0.29671 0.5854 -0.28351 0.5358 C -0.26667 0.49015 -0.26042 0.42711 -0.26042 0.37659 C -0.25678 0.327 -0.26042 0.2679 -0.27709 0.21831 C -0.29341 0.17265 -0.32344 0.13627 -0.36337 0.11819 C -0.404 0.10475 -0.44393 0.12283 -0.47066 0.15434 C -0.49375 0.18586 -0.5106 0.23638 -0.51407 0.29478 C -0.51407 0.35388 -0.5106 0.40811 -0.49375 0.454 C -0.47709 0.49965 -0.48039 0.50823 -0.41372 0.56732 C -0.35365 0.63129 -0.29341 0.61298 -0.25678 0.61692 C -0.22032 0.61692 -0.19011 0.59884 -0.15365 0.58076 C -0.1132 0.55875 -0.08004 0.51773 -0.05625 0.48157 C -0.03333 0.44519 -0.02327 0.39954 -0.01007 0.327 C 4.9999999999998E-006 0.25446 5E-006 0.21831 5E-006 0.16315 C 5E-006 0.10869 5E-006 0.05446 5E-006 9.38586E-007 E">
                                      <p:cBhvr>
                                        <p:cTn id="75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vislost na volbě počátečních podmínek pro Lorenzův systé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417680"/>
            <a:ext cx="8229600" cy="3952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871640" y="1600200"/>
            <a:ext cx="5399280" cy="3908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41520" y="5508720"/>
            <a:ext cx="785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očáteční podmínky se liší jen o 0,0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15,80; -17,48; 35,64)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-15,79; -17,48; 35,6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52680" y="1346040"/>
            <a:ext cx="4309920" cy="5107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87280" y="419040"/>
            <a:ext cx="85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prostření „chuchvalce“ počátečních podmínek po Lorenzově atrakto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57360" y="274680"/>
            <a:ext cx="4229280" cy="58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1640" y="140328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hodilá posloupnost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dy kostk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6640" y="3789360"/>
            <a:ext cx="22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eterministická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otická posloupnost (logistická rov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86640" y="4365720"/>
            <a:ext cx="2206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26080" y="5398920"/>
                <a:ext cx="238788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kde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hodně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volený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amet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76B1-3161-4B97-B85C-8821028CEA3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ší časové řady generované chaotickými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ynamickými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-7790040" y="-5500800"/>
            <a:ext cx="3598920" cy="2600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4160" y="1868400"/>
            <a:ext cx="4317840" cy="3119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572000" y="1832040"/>
            <a:ext cx="4317840" cy="3192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6280" y="5319720"/>
            <a:ext cx="319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906640" y="5103720"/>
                <a:ext cx="12812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,4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,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66640" y="5273640"/>
            <a:ext cx="28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énonovo zobraze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7000" y="522936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slerův systé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1640" y="5499000"/>
            <a:ext cx="184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912000" y="4915080"/>
                <a:ext cx="1468440" cy="15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ší časové řady generované chaotickými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ynamickými 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4160" y="1847880"/>
            <a:ext cx="4317840" cy="31622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1855800"/>
            <a:ext cx="4317840" cy="314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19280" y="5581800"/>
                <a:ext cx="19144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411280" y="549900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6280" y="554364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ons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ý systé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e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86640" y="5499000"/>
            <a:ext cx="207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047000" y="5049720"/>
                <a:ext cx="17780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Z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751280" y="5634000"/>
            <a:ext cx="20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n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550800"/>
            <a:ext cx="8353440" cy="46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sv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ětlení nečekaně divokého a nepravidelného chování v době před chaos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ále jen B.C.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periment (měření) znehodnocen např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ějším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um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dné měřící příst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stava pod vlivem velkého množství stupňů volnosti,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é se nepodařilo během experimentu dostatečně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trol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pod.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ávěr: </a:t>
            </a: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pokus se nezdaři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co by tomu as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kli učitelé při školních laboratorních prací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373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čekávalo se, zvláště u disipativních systémů, že se divoké chování po čase ustálí – viz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„Lorenzova hydrodynamická historka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může nám fourierovská analý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(připomínka známých skutečnost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48080" y="1719360"/>
            <a:ext cx="2974680" cy="2184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832360" y="1719360"/>
            <a:ext cx="2854440" cy="2184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604960" y="4076640"/>
            <a:ext cx="2917800" cy="2187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811840" y="4076640"/>
            <a:ext cx="2874960" cy="2187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2124000"/>
            <a:ext cx="202572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á posloupnost       (3 nezávislé frekv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000" y="4616280"/>
            <a:ext cx="243036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hodná posloupnost čísel s normálním rozdělení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může nám fourierovská analý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30560" y="1600200"/>
            <a:ext cx="3027240" cy="2187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803920" y="1600200"/>
            <a:ext cx="2882880" cy="2187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230560" y="3936960"/>
            <a:ext cx="3008160" cy="218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803920" y="3936960"/>
            <a:ext cx="2886120" cy="2189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2243160"/>
            <a:ext cx="195408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non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560" y="4543560"/>
            <a:ext cx="194472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nz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brazení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rajekto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fázovém (stavové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prosto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299200" y="2338560"/>
            <a:ext cx="2735280" cy="218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84280" y="4886280"/>
                <a:ext cx="12430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547640" y="1782720"/>
            <a:ext cx="19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non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35520" y="1782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onský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5146560"/>
            <a:ext cx="104436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5800" y="5772240"/>
            <a:ext cx="1579320" cy="614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adnice F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Times New Roman"/>
              </a:rPr>
              <a:t>n,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cs-CZ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778280" y="4705200"/>
                <a:ext cx="1917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948360" y="5048280"/>
            <a:ext cx="6843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51880" y="5637240"/>
            <a:ext cx="139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81960" y="5772240"/>
            <a:ext cx="2139840" cy="7077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adnice 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17720" y="2338560"/>
            <a:ext cx="2914560" cy="21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obrazení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rajektor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S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 fázovém prosto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563840"/>
            <a:ext cx="4038480" cy="3217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8320" y="1563840"/>
            <a:ext cx="4038480" cy="3217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68360" y="1197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össl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6000" y="11970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enzův syst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76200" y="4915080"/>
                <a:ext cx="1216080" cy="13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697040" y="55879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08200" y="5197320"/>
            <a:ext cx="1697040" cy="785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řadnic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, y, 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648320" y="4781520"/>
                <a:ext cx="17780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X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Y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</m:e>
                      <m:e>
                        <m:f>
                          <m:num>
                            <m:r>
                              <m:t xml:space="preserve">dZ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Z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7020000" y="5267160"/>
            <a:ext cx="188280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řadnic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, Y,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26360" y="4781520"/>
            <a:ext cx="5936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426360" y="5908680"/>
            <a:ext cx="59364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6360" y="6445080"/>
            <a:ext cx="438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pozor: </a:t>
            </a:r>
            <a:r>
              <a:rPr b="0" i="1" lang="en-US" sz="1200" spc="-1" strike="noStrike">
                <a:solidFill>
                  <a:srgbClr val="ff3300"/>
                </a:solidFill>
                <a:latin typeface="Times New Roman"/>
              </a:rPr>
              <a:t>X,Y,Z</a:t>
            </a: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ejsou souřadnice našeho „běžného“ 3D prost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4:25:01Z</dcterms:created>
  <dc:creator>User</dc:creator>
  <dc:description/>
  <dc:language>en-US</dc:language>
  <cp:lastModifiedBy>User</cp:lastModifiedBy>
  <dcterms:modified xsi:type="dcterms:W3CDTF">2004-03-03T02:35:31Z</dcterms:modified>
  <cp:revision>36</cp:revision>
  <dc:subject/>
  <dc:title>Deterministický chaos v časových řadách</dc:title>
</cp:coreProperties>
</file>