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0.wmf" ContentType="image/x-wmf"/>
  <Override PartName="/ppt/media/image2.png" ContentType="image/png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E208-C140-47C2-9AE8-568DEFB9CF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or na správnou volbu paramet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19F-00D4-411C-BA0D-2D4F08FB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067-5383-4FFE-B8AB-795DCF5B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A66-B232-47A8-8D51-429AA947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DF1-FA29-4066-A86D-4C9AFAB0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058-1480-4E5C-B7EC-FE93DD1F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613-C5FD-4398-9C9E-022110C2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660-7880-449A-B243-DD8AFD25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3D2-D3CE-49FD-BB79-4476AA87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D32-E89F-4C1F-B4DB-C2C1BF58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DC1-C5B1-4FF5-BDDB-566C9360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FEC-4F70-4CEC-8D8C-979A411E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2C2-382D-4F0B-B3BE-DE459445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04F1-8391-4E09-B515-8A33953C9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1.wmf"/><Relationship Id="rId3" Type="http://schemas.openxmlformats.org/officeDocument/2006/relationships/image" Target="../media/image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eterministický cha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 časových řad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e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š Raidl,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Ji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ří Mikšov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KM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Matematicko-fyzikální faku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Univerzita Karlova v Pra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liv volby 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a rekonstrukci Lorenzova atrak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50920" y="1239840"/>
            <a:ext cx="3238560" cy="2546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4648320" y="1108080"/>
            <a:ext cx="3238560" cy="2712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250920" y="3786120"/>
            <a:ext cx="3238560" cy="2714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4648320" y="3672000"/>
            <a:ext cx="3238560" cy="2816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36840" y="20970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80240" y="209700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brá vol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36840" y="476100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liš ma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80240" y="4761000"/>
            <a:ext cx="8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liš vel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274680"/>
            <a:ext cx="7210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 volit dimenzi vnoření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 &gt; 2d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podmínka postačující nikoliv nutná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 d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le stejně obvykle nezná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 z toho v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ítáme nějaký kvantifikátor pro různé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ž po nasycení jeho odhadu (může být dosti subjektivní záležit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ovaná trajektorie se nesmí kříž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malém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znikají tzv, falešní sousedé ve 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66960" y="3732120"/>
            <a:ext cx="2879640" cy="2210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97400" y="3732120"/>
            <a:ext cx="2879640" cy="2367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617840" y="6256440"/>
            <a:ext cx="13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é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48360" y="62564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tatečné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ešní a skuteční soused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6000" y="1359000"/>
            <a:ext cx="4356000" cy="4140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0" y="1359000"/>
            <a:ext cx="4365720" cy="4140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63640" y="5877000"/>
            <a:ext cx="27716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uteční soused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lešní soused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čet falešných sousedů v závislost n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3424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424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58920" y="1833480"/>
            <a:ext cx="4317840" cy="3191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368960" y="1843200"/>
            <a:ext cx="4317840" cy="3181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403280" y="5024520"/>
            <a:ext cx="21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enzův syst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80000" y="505476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énon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ší možné způsoby rekonstrukce trajekto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ýza hlavních k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ůzné váhové funkce u různých souřad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dovolena celá řada transformací s původní časovou řad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konstrukce trajektorie diferencov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ání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63640" y="1143000"/>
          <a:ext cx="751536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143000"/>
                    <a:ext cx="75153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00880" y="2019240"/>
            <a:ext cx="86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ždá další nová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uřa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e vlastně další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rivac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ředchozí souřad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195640" y="2792520"/>
          <a:ext cx="452736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792520"/>
                    <a:ext cx="45273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4908600" y="3830760"/>
            <a:ext cx="3627360" cy="3027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215360" y="4124160"/>
            <a:ext cx="40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e Lorenzova atraktor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dhad korelační dimen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050920" y="1305000"/>
          <a:ext cx="456732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305000"/>
                    <a:ext cx="45673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84360" y="1992240"/>
            <a:ext cx="3724200" cy="5192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186520" y="1996920"/>
            <a:ext cx="37209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dhad entro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71640" y="1730520"/>
          <a:ext cx="1939680" cy="43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30520"/>
                    <a:ext cx="19396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1640" y="2540160"/>
          <a:ext cx="2195280" cy="66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540160"/>
                    <a:ext cx="21952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427640" y="1730520"/>
            <a:ext cx="3649680" cy="4844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74440" y="3624120"/>
            <a:ext cx="3550320" cy="25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orenzův systém 1,5 až 2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sy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ém 0,30 až 0,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57360" y="274680"/>
            <a:ext cx="4229280" cy="58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1640" y="140328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hodilá posloupnost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dy kostk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6640" y="3789360"/>
            <a:ext cx="22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terministická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otická posloupnost (logistická rov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86640" y="4365720"/>
            <a:ext cx="220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26080" y="5398920"/>
                <a:ext cx="23878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hodně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volený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met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8B4-B540-4F81-9CB7-A36A04EF3A81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ší časové řady generované chaotickými dynamickými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-7790040" y="-5500800"/>
            <a:ext cx="3598920" cy="2600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4160" y="1868400"/>
            <a:ext cx="4317840" cy="3119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572000" y="1832040"/>
            <a:ext cx="4317840" cy="3192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46280" y="5319720"/>
            <a:ext cx="319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906640" y="5103720"/>
                <a:ext cx="12812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,4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,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566640" y="5273640"/>
            <a:ext cx="28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énonovo zobraze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7000" y="5229360"/>
            <a:ext cx="14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slerův systé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1640" y="5499000"/>
            <a:ext cx="184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912000" y="4915080"/>
                <a:ext cx="1468440" cy="15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ší časové řady generované chaotickými dynamickými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4160" y="1847880"/>
            <a:ext cx="4317840" cy="316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1855800"/>
            <a:ext cx="4317840" cy="314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19280" y="5581800"/>
                <a:ext cx="1914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2411280" y="54990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6280" y="554364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ons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 systé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e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86640" y="5499000"/>
            <a:ext cx="207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047000" y="5049720"/>
                <a:ext cx="17780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Z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751280" y="5634000"/>
            <a:ext cx="20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en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může nám fourierovská analý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(připomínka známých skutečností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48080" y="1719360"/>
            <a:ext cx="2974680" cy="2184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832360" y="1719360"/>
            <a:ext cx="2854440" cy="2184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604960" y="4076640"/>
            <a:ext cx="2917800" cy="2187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811840" y="4076640"/>
            <a:ext cx="2874960" cy="2187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2124000"/>
            <a:ext cx="202572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 posloupnost       (3 nezávislé frekv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000" y="4616280"/>
            <a:ext cx="243036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hodná posloupnost čísel s normálním rozdělení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může nám fourierovská analý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30560" y="1600200"/>
            <a:ext cx="3027240" cy="2187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803920" y="1600200"/>
            <a:ext cx="2882880" cy="2187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230560" y="3936960"/>
            <a:ext cx="3008160" cy="2189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803920" y="3936960"/>
            <a:ext cx="2886120" cy="2189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2243160"/>
            <a:ext cx="19540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non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6560" y="4543560"/>
            <a:ext cx="19447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enz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obrazení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rajektor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fázovém (stavové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rosto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99200" y="2338560"/>
            <a:ext cx="2735280" cy="218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84280" y="4886280"/>
                <a:ext cx="12430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547640" y="178272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non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35520" y="1782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onský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5146560"/>
            <a:ext cx="1044360" cy="3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5800" y="5772240"/>
            <a:ext cx="1579320" cy="614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adnice 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Times New Roman"/>
              </a:rPr>
              <a:t>n,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778280" y="4705200"/>
                <a:ext cx="19177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948360" y="5048280"/>
            <a:ext cx="68436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51880" y="5637240"/>
            <a:ext cx="139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81960" y="5772240"/>
            <a:ext cx="2139840" cy="7077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adnice 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17720" y="2338560"/>
            <a:ext cx="2914560" cy="21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obrazení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rajektor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fázovém prosto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1563840"/>
            <a:ext cx="4038480" cy="3217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563840"/>
            <a:ext cx="4038480" cy="3217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68360" y="1197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össl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11970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enz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6200" y="4915080"/>
                <a:ext cx="1216080" cy="13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697040" y="558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08200" y="5197320"/>
            <a:ext cx="1697040" cy="785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řadnice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648320" y="4781520"/>
                <a:ext cx="17780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Z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7020000" y="5267160"/>
            <a:ext cx="188280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řadnice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Y, 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26360" y="4781520"/>
            <a:ext cx="5936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426360" y="5908680"/>
            <a:ext cx="59364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6445080"/>
            <a:ext cx="438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ozor: </a:t>
            </a:r>
            <a:r>
              <a:rPr b="0" i="1" lang="en-US" sz="1200" spc="-1" strike="noStrike">
                <a:solidFill>
                  <a:srgbClr val="ff3300"/>
                </a:solidFill>
                <a:latin typeface="Times New Roman"/>
              </a:rPr>
              <a:t>X,Y,Z</a:t>
            </a: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ejsou souřadnice našeho „běžného“ 3D prost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álně získaná časová ř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17320"/>
            <a:ext cx="82296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eznáme rovnice DS ani jeho trajektorii 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usíme udělat krok navíc, a to rekonstruovat trajektorii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12920" y="2889360"/>
            <a:ext cx="469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a časových zpož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68320" y="3517920"/>
            <a:ext cx="746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ěříme skalární veličin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(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1, …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vzorkovacím krokem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3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68320" y="4616280"/>
                <a:ext cx="37861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τ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33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878040" y="5157720"/>
                <a:ext cx="38890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τ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76240" y="5805360"/>
                <a:ext cx="3686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τ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878040" y="3989520"/>
            <a:ext cx="70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jektorii v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změrném konstruujeme tak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8040" y="6381720"/>
            <a:ext cx="34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1, …,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=N-(m-1)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70600" y="4940280"/>
            <a:ext cx="407340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časové zpožd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dimenze vnoření;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 &gt; 2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e obvykle neznáme, naopak ho chceme vypočí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4:25:01Z</dcterms:created>
  <dc:creator>User</dc:creator>
  <dc:description/>
  <dc:language>en-US</dc:language>
  <cp:lastModifiedBy>Home User</cp:lastModifiedBy>
  <dcterms:modified xsi:type="dcterms:W3CDTF">2008-05-14T21:52:02Z</dcterms:modified>
  <cp:revision>32</cp:revision>
  <dc:subject/>
  <dc:title>Deterministický chaos v časových řadách</dc:title>
</cp:coreProperties>
</file>