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2C79-747E-4EF9-A499-D2F923602D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A467-61F3-4901-8EC4-4B8ADEA969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09D7-39C2-4E04-AD47-B03DBAE2F2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FAA-EDF9-4F1E-84D8-A695871E54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5DB1-55E2-4A82-9E94-09348C35F8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7E79-A03E-4004-A0B1-7DBFB4DB8B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0F20-3B4A-49D4-8EB3-D5AC62CCC7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D55-AEF4-4FA4-B106-F43459F7F0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7FB-8C6D-4E0B-84D7-7DE5184589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195F-59B9-421D-99F8-185B1220CE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BF59-74FB-4115-810B-8649EF062B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80BD-E0B6-4E1C-909B-EBA0241068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E65-66DC-4F36-BB1F-2582752356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4B8-2B18-4440-915A-80273D39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5D3-FE81-4071-A6DA-248A8D6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89B-DE3A-4D20-9464-4540CA1F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8C7-4F9E-4DF9-940F-340D1846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265-3D2C-47F0-AE85-0F6A3DC3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D6B-B2CE-4307-AE33-D0B4A77B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7D9-5D9A-4127-935C-B47B48C5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F60-C0E8-4BFC-83FA-B4F69F04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99C-DAD2-4353-87ED-410B140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54C-3E61-4900-81D2-54D6639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6F0-548E-4CDD-9508-2467B44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D1A-5F07-463E-A80D-04E595D5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E32C-CCF4-44A1-8595-03060115DE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japunovovy%20exponenty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a proč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vantifikova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lišit deterministický chaos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š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ovědě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nezávislých proměnný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síme znát, chceme-li DS model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řadit DS do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ří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určitými shodnými vlastnost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kvantifikátoru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?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mě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hování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konec kvantifikátor chaosu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i v samotné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efini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ha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el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ní dimenze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492360" y="1628640"/>
          <a:ext cx="180684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628640"/>
                    <a:ext cx="18068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6"/>
          <p:cNvSpPr/>
          <p:nvPr/>
        </p:nvSpPr>
        <p:spPr>
          <a:xfrm>
            <a:off x="1239840" y="2705040"/>
            <a:ext cx="72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lační integrál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ativní počet stavů bližších ne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7"/>
          <p:cNvGraphicFramePr/>
          <p:nvPr/>
        </p:nvGraphicFramePr>
        <p:xfrm>
          <a:off x="3924360" y="3284640"/>
          <a:ext cx="1212840" cy="3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284640"/>
                    <a:ext cx="12128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9"/>
          <p:cNvGraphicFramePr/>
          <p:nvPr/>
        </p:nvGraphicFramePr>
        <p:xfrm>
          <a:off x="468360" y="4292640"/>
          <a:ext cx="4448160" cy="164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292640"/>
                    <a:ext cx="444816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1"/>
          <p:cNvGraphicFramePr/>
          <p:nvPr/>
        </p:nvGraphicFramePr>
        <p:xfrm>
          <a:off x="6084720" y="4653000"/>
          <a:ext cx="2235240" cy="6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653000"/>
                    <a:ext cx="22352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japunovova dimenze 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468360" y="2852640"/>
          <a:ext cx="498780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852640"/>
                    <a:ext cx="49878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7"/>
          <p:cNvGraphicFramePr/>
          <p:nvPr/>
        </p:nvGraphicFramePr>
        <p:xfrm>
          <a:off x="-1787400" y="3306600"/>
          <a:ext cx="5713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787400" y="3306600"/>
                    <a:ext cx="5713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9"/>
          <p:cNvSpPr/>
          <p:nvPr/>
        </p:nvSpPr>
        <p:spPr>
          <a:xfrm>
            <a:off x="-1785960" y="37346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14680" y="907920"/>
            <a:ext cx="7308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um Ljapunovových exponentů seřazených podle velik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48080" y="1916280"/>
            <a:ext cx="49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 je největší přirozené číslo pro které pla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2"/>
          <p:cNvGraphicFramePr/>
          <p:nvPr/>
        </p:nvGraphicFramePr>
        <p:xfrm>
          <a:off x="6516720" y="1773360"/>
          <a:ext cx="866880" cy="64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773360"/>
                    <a:ext cx="8668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5"/>
          <p:cNvSpPr/>
          <p:nvPr/>
        </p:nvSpPr>
        <p:spPr>
          <a:xfrm>
            <a:off x="5792400" y="5157720"/>
            <a:ext cx="3169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aplan-Yorkova hypotéz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2-D zobraz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lmogorovova entropie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2050920" y="3357720"/>
                <a:ext cx="5143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4"/>
          <p:cNvSpPr/>
          <p:nvPr/>
        </p:nvSpPr>
        <p:spPr>
          <a:xfrm>
            <a:off x="353880" y="981000"/>
            <a:ext cx="8436240" cy="23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edujme trajektorii DS ve fázovém prostoru, který pokryjeme disjunktními množinami o velik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Jednotlivé množiny označm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chť značí sdruženou pravděpodobnost toho, že se trajektorie dynamického systému nalézá v ča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noži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 ča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množi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td. a v ča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+(N-1)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noži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Kolmogorovovu entropii pak definujeme vzta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00000" y="4222440"/>
            <a:ext cx="742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mogorova entropie má následující velmi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důležité vlast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 =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periodické, kvaziperiodické nebo stacionární proces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čistě náhodné systém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deterministicky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chaotické systé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5076720" y="6093000"/>
          <a:ext cx="9748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6093000"/>
                    <a:ext cx="9748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8"/>
          <p:cNvSpPr/>
          <p:nvPr/>
        </p:nvSpPr>
        <p:spPr>
          <a:xfrm>
            <a:off x="2703960" y="60930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inova nerovn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rel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ní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entro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2411280" y="907920"/>
          <a:ext cx="4135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907920"/>
                    <a:ext cx="4135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6"/>
          <p:cNvSpPr/>
          <p:nvPr/>
        </p:nvSpPr>
        <p:spPr>
          <a:xfrm>
            <a:off x="467280" y="184464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ležité vlast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023480" y="2349360"/>
            <a:ext cx="372996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náhodné proces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haotické systé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116000" y="5373720"/>
          <a:ext cx="17240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5373720"/>
                    <a:ext cx="17240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15"/>
          <p:cNvSpPr/>
          <p:nvPr/>
        </p:nvSpPr>
        <p:spPr>
          <a:xfrm>
            <a:off x="543960" y="46530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lost s korelačním integrá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6"/>
          <p:cNvGraphicFramePr/>
          <p:nvPr/>
        </p:nvGraphicFramePr>
        <p:xfrm>
          <a:off x="4932360" y="5229360"/>
          <a:ext cx="244332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5229360"/>
                    <a:ext cx="24433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18"/>
          <p:cNvSpPr/>
          <p:nvPr/>
        </p:nvSpPr>
        <p:spPr>
          <a:xfrm>
            <a:off x="5289480" y="6093000"/>
            <a:ext cx="24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orelační 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japunovovy expo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ktální dim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ývá obvyklé, že chaotický atraktor, po kterém se trajektorie DS pohybuje má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neceločíselnou dimenz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Říkáme m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odivný atrak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: obecně chaotický atrakto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divný atr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27280" y="4076640"/>
            <a:ext cx="6475320" cy="246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d: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m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řivka: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m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ocha: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m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m=3,  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fraktály: dim </a:t>
            </a:r>
            <a:r>
              <a:rPr b="0" lang="cs-CZ" sz="28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47640" y="657360"/>
            <a:ext cx="76694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eometrický význam dimen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ožství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elikost)</a:t>
            </a:r>
            <a:r>
              <a:rPr b="0" lang="cs-CZ" sz="2800" spc="-1" strike="noStrike" baseline="30000">
                <a:solidFill>
                  <a:srgbClr val="ff3300"/>
                </a:solidFill>
                <a:latin typeface="Arial"/>
              </a:rPr>
              <a:t>dim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dimenze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n (množství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ln (veli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ství …objem, hmo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kost   …vhodně zavedené lineár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cké měřítko, např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pacita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63640" y="166536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2887560" y="1165320"/>
                <a:ext cx="3368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[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8" name="Picture 5" descr="OBR_8"/>
          <p:cNvPicPr/>
          <p:nvPr/>
        </p:nvPicPr>
        <p:blipFill>
          <a:blip r:embed="rId1"/>
          <a:stretch/>
        </p:blipFill>
        <p:spPr>
          <a:xfrm>
            <a:off x="4572000" y="2793960"/>
            <a:ext cx="4317840" cy="308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KAPACITA_HENON"/>
          <p:cNvPicPr/>
          <p:nvPr/>
        </p:nvPicPr>
        <p:blipFill>
          <a:blip r:embed="rId2"/>
          <a:stretch/>
        </p:blipFill>
        <p:spPr>
          <a:xfrm>
            <a:off x="254160" y="2816280"/>
            <a:ext cx="4317840" cy="305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335320" y="203184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na Hénonově zobra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68360" y="5880240"/>
            <a:ext cx="41036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ítá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ne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ázdných 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vků“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 velik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vynášíme do gra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788000" y="5589360"/>
            <a:ext cx="431640" cy="277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580000" y="6084720"/>
            <a:ext cx="3309840" cy="40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on „přímky“ udává odhad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1"/>
          <p:cNvSpPr/>
          <p:nvPr/>
        </p:nvSpPr>
        <p:spPr>
          <a:xfrm>
            <a:off x="6808680" y="4172040"/>
            <a:ext cx="2081160" cy="1730160"/>
          </a:xfrm>
          <a:custGeom>
            <a:avLst/>
            <a:gdLst/>
            <a:ahLst/>
            <a:rect l="l" t="t" r="r" b="b"/>
            <a:pathLst>
              <a:path fill="none" w="21600" h="41526">
                <a:moveTo>
                  <a:pt x="6273" y="-1"/>
                </a:moveTo>
                <a:cubicBezTo>
                  <a:pt x="15376" y="2762"/>
                  <a:pt x="21600" y="11155"/>
                  <a:pt x="21600" y="20669"/>
                </a:cubicBezTo>
                <a:cubicBezTo>
                  <a:pt x="21600" y="30435"/>
                  <a:pt x="15046" y="38987"/>
                  <a:pt x="5615" y="41526"/>
                </a:cubicBezTo>
              </a:path>
              <a:path stroke="0" w="21600" h="41526">
                <a:moveTo>
                  <a:pt x="6273" y="-1"/>
                </a:moveTo>
                <a:cubicBezTo>
                  <a:pt x="15376" y="2762"/>
                  <a:pt x="21600" y="11155"/>
                  <a:pt x="21600" y="20669"/>
                </a:cubicBezTo>
                <a:cubicBezTo>
                  <a:pt x="21600" y="30435"/>
                  <a:pt x="15046" y="38987"/>
                  <a:pt x="5615" y="41526"/>
                </a:cubicBezTo>
                <a:lnTo>
                  <a:pt x="0" y="20669"/>
                </a:lnTo>
                <a:lnTo>
                  <a:pt x="6273" y="-1"/>
                </a:lnTo>
                <a:close/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4572000" y="3789360"/>
            <a:ext cx="395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68360" y="549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acita (kapacitní dimenz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5"/>
          <p:cNvGraphicFramePr/>
          <p:nvPr/>
        </p:nvGraphicFramePr>
        <p:xfrm>
          <a:off x="2124000" y="1197000"/>
          <a:ext cx="39769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3976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7"/>
          <p:cNvSpPr/>
          <p:nvPr/>
        </p:nvSpPr>
        <p:spPr>
          <a:xfrm>
            <a:off x="755640" y="2133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ž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j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, každá neprázdná část pokrytí velik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pívá 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žství 1/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kapacita_3"/>
          <p:cNvPicPr/>
          <p:nvPr/>
        </p:nvPicPr>
        <p:blipFill>
          <a:blip r:embed="rId3"/>
          <a:stretch/>
        </p:blipFill>
        <p:spPr>
          <a:xfrm>
            <a:off x="324000" y="2708280"/>
            <a:ext cx="259056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kapacita_2"/>
          <p:cNvPicPr/>
          <p:nvPr/>
        </p:nvPicPr>
        <p:blipFill>
          <a:blip r:embed="rId4"/>
          <a:stretch/>
        </p:blipFill>
        <p:spPr>
          <a:xfrm>
            <a:off x="3203640" y="2708280"/>
            <a:ext cx="259056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kapacita_1"/>
          <p:cNvPicPr/>
          <p:nvPr/>
        </p:nvPicPr>
        <p:blipFill>
          <a:blip r:embed="rId5"/>
          <a:stretch/>
        </p:blipFill>
        <p:spPr>
          <a:xfrm>
            <a:off x="5940360" y="2708280"/>
            <a:ext cx="259092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OBR_8"/>
          <p:cNvPicPr/>
          <p:nvPr/>
        </p:nvPicPr>
        <p:blipFill>
          <a:blip r:embed="rId6"/>
          <a:stretch/>
        </p:blipFill>
        <p:spPr>
          <a:xfrm>
            <a:off x="2556000" y="4116240"/>
            <a:ext cx="3817800" cy="2741760"/>
          </a:xfrm>
          <a:prstGeom prst="rect">
            <a:avLst/>
          </a:prstGeom>
          <a:ln w="0">
            <a:noFill/>
          </a:ln>
        </p:spPr>
      </p:pic>
      <p:sp>
        <p:nvSpPr>
          <p:cNvPr id="75" name="Line 13"/>
          <p:cNvSpPr/>
          <p:nvPr/>
        </p:nvSpPr>
        <p:spPr>
          <a:xfrm flipH="1">
            <a:off x="4066920" y="5516640"/>
            <a:ext cx="23050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443640" y="530064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on 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250920" y="195264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250920" y="2708280"/>
            <a:ext cx="21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572000" y="270828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50920" y="342900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655640" y="342900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572000" y="342900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977080" y="342900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250920" y="41497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 flipH="1">
            <a:off x="755280" y="414972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1655640" y="414972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2158920" y="414972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572000" y="4149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003640" y="41497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977080" y="4149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6443640" y="4149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162920" y="13795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8217000" y="13795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7054920" y="1768320"/>
            <a:ext cx="882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=2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937640" y="1768320"/>
            <a:ext cx="120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91584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2"/>
              <p:cNvSpPr txBox="1"/>
              <p:nvPr/>
            </p:nvSpPr>
            <p:spPr>
              <a:xfrm>
                <a:off x="71280" y="5100480"/>
                <a:ext cx="31132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≃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23"/>
          <p:cNvSpPr/>
          <p:nvPr/>
        </p:nvSpPr>
        <p:spPr>
          <a:xfrm>
            <a:off x="233280" y="4656240"/>
            <a:ext cx="31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tý krok  až d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297000" y="5985000"/>
            <a:ext cx="568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3403440" y="5186520"/>
                <a:ext cx="564696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élk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…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…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3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26"/>
          <p:cNvSpPr/>
          <p:nvPr/>
        </p:nvSpPr>
        <p:spPr>
          <a:xfrm>
            <a:off x="1979640" y="54936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antorovo dis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4000" y="584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ívá se celá řada dalších fraktálních dimenz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9640" y="206064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eticky se navzájem jejich hodnoty mohou lišit, ale při výpočtech s reálnými objekty (daty) je rozdíl mezi nimi zanedbatel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Hausdorffova dim., informační dime., korelační dim. (hlavně z časových řad), Kaplan-Yorkova dim. (zavedená přes Ljapunovovy expone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900000" y="5576760"/>
                <a:ext cx="2116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5"/>
          <p:cNvSpPr/>
          <p:nvPr/>
        </p:nvSpPr>
        <p:spPr>
          <a:xfrm>
            <a:off x="539640" y="4221000"/>
            <a:ext cx="30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inu z nich lze získat ze zobecněné dimenze jako její speciální příp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032360" y="537840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-li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islá n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rak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ní dimenz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84360" y="1268280"/>
          <a:ext cx="31273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31273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9"/>
          <p:cNvSpPr/>
          <p:nvPr/>
        </p:nvSpPr>
        <p:spPr>
          <a:xfrm>
            <a:off x="179280" y="3716280"/>
            <a:ext cx="89647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-li </a:t>
            </a:r>
            <a:r>
              <a:rPr b="0" i="1" lang="cs-CZ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20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ávislé</a:t>
            </a:r>
            <a:r>
              <a:rPr b="0" i="1" lang="cs-C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„části“ systému jsou navštěvovány stejně čast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ak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18600" y="5013360"/>
            <a:ext cx="860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,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 počet stavů ve fázovém prostoru, které pro které j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2"/>
          <p:cNvGraphicFramePr/>
          <p:nvPr/>
        </p:nvGraphicFramePr>
        <p:xfrm>
          <a:off x="6156360" y="5661000"/>
          <a:ext cx="19857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5661000"/>
                    <a:ext cx="19857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5"/>
          <p:cNvGraphicFramePr/>
          <p:nvPr/>
        </p:nvGraphicFramePr>
        <p:xfrm>
          <a:off x="755640" y="2492280"/>
          <a:ext cx="198288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2492280"/>
                    <a:ext cx="19828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7"/>
          <p:cNvSpPr/>
          <p:nvPr/>
        </p:nvSpPr>
        <p:spPr>
          <a:xfrm>
            <a:off x="3132000" y="22050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hanonnova informační entro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ra nejistoty („nepořádku“)  v   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děpod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258920" y="573408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,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– lokální korelační integr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1:14:29Z</dcterms:created>
  <dc:creator>User</dc:creator>
  <dc:description/>
  <dc:language>en-US</dc:language>
  <cp:lastModifiedBy>Ales Raidl</cp:lastModifiedBy>
  <dcterms:modified xsi:type="dcterms:W3CDTF">2019-05-02T15:05:11Z</dcterms:modified>
  <cp:revision>9</cp:revision>
  <dc:subject/>
  <dc:title>Jak a proč kvantifikovat chaos</dc:title>
</cp:coreProperties>
</file>