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51C5-D31D-47BB-9690-144DC9E3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56A4-EBCC-413D-B39E-5C77518A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350-9D3D-4185-9AED-F5BAFA85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4E19-B049-438A-8C6D-FE8473CC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8E4A-BA59-4403-BEA5-9C956555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6902-FDA8-4B23-8B91-D2A75449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69B4-111C-4B0A-A2C2-0092DED5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A9A-2B3A-4AEA-BC41-87C23DEA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AE2-238F-472C-AA16-46AA7859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4280-D651-4D98-87CF-2A1389CD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0C1-6406-43E9-8072-1CDC6021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E41-9911-4FFA-924E-EC5A5C47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C5CC-65B8-414E-8068-12FB04778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os a počas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1916280"/>
            <a:ext cx="777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mezení doby smysluplné předpovědit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pinové předpovědi počas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lineární verifikace klimatických mode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osouvání meze předpověditelnosti počas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16160" y="1600200"/>
            <a:ext cx="651168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687760" y="1535040"/>
            <a:ext cx="47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pěšná předpověď, je-li AC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0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610080" y="3589200"/>
            <a:ext cx="38160" cy="20016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570640" y="3587760"/>
            <a:ext cx="38160" cy="20016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27600" y="3218040"/>
            <a:ext cx="0" cy="2188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3044520" y="3981240"/>
            <a:ext cx="1136520" cy="425160"/>
          </a:xfrm>
          <a:prstGeom prst="wedgeRoundRectCallout">
            <a:avLst>
              <a:gd name="adj1" fmla="val 1254"/>
              <a:gd name="adj2" fmla="val 89550"/>
              <a:gd name="adj3" fmla="val 16667"/>
            </a:avLst>
          </a:prstGeom>
          <a:solidFill>
            <a:srgbClr val="ffff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č. 70. let cca 3,5 d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91080" y="2333520"/>
            <a:ext cx="914400" cy="609840"/>
          </a:xfrm>
          <a:prstGeom prst="wedgeRoundRectCallout">
            <a:avLst>
              <a:gd name="adj1" fmla="val -25000"/>
              <a:gd name="adj2" fmla="val 85675"/>
              <a:gd name="adj3" fmla="val 16667"/>
            </a:avLst>
          </a:prstGeom>
          <a:solidFill>
            <a:srgbClr val="ffff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. / 80. léta cca 5,5 d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91040" y="4029120"/>
            <a:ext cx="1247760" cy="438120"/>
          </a:xfrm>
          <a:prstGeom prst="wedgeRoundRectCallout">
            <a:avLst>
              <a:gd name="adj1" fmla="val -3435"/>
              <a:gd name="adj2" fmla="val -93842"/>
              <a:gd name="adj3" fmla="val 16667"/>
            </a:avLst>
          </a:prstGeom>
          <a:solidFill>
            <a:srgbClr val="ffff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sledních 10 le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n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kupinov</a:t>
            </a: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á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p</a:t>
            </a: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ředpově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6720" y="1755720"/>
            <a:ext cx="317988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58960" y="1557360"/>
            <a:ext cx="317952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17440" y="1193760"/>
            <a:ext cx="278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írně pozměněné počáteční 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51520" y="1366920"/>
            <a:ext cx="33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sledek po týdnu výpoč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é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incip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lineární predik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49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635280" y="1413000"/>
            <a:ext cx="2376720" cy="1079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443640" y="1197000"/>
            <a:ext cx="2292480" cy="143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240" y="765000"/>
            <a:ext cx="336420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ůvodní zkoumaný syst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1800" y="765000"/>
            <a:ext cx="240120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Časová řada (řa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4880" y="6237360"/>
            <a:ext cx="319536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ředpověď nové hodno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43760" y="765000"/>
            <a:ext cx="287352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konstrukce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95280" y="3343320"/>
            <a:ext cx="8497800" cy="2512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26280" y="3500280"/>
            <a:ext cx="359280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lezení nejbližších souse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98280" y="3500280"/>
            <a:ext cx="387792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konstrukce lokální dynam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1773360"/>
            <a:ext cx="792360" cy="288720"/>
          </a:xfrm>
          <a:custGeom>
            <a:avLst/>
            <a:gdLst>
              <a:gd name="textAreaLeft" fmla="*/ 99000 w 792360"/>
              <a:gd name="textAreaRight" fmla="*/ 693360 w 792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56360" y="1773360"/>
            <a:ext cx="792000" cy="288720"/>
          </a:xfrm>
          <a:custGeom>
            <a:avLst/>
            <a:gdLst>
              <a:gd name="textAreaLeft" fmla="*/ 99000 w 792000"/>
              <a:gd name="textAreaRight" fmla="*/ 693000 w 792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rot="20970000">
            <a:off x="3059280" y="2781000"/>
            <a:ext cx="3384360" cy="289080"/>
          </a:xfrm>
          <a:custGeom>
            <a:avLst/>
            <a:gdLst>
              <a:gd name="textAreaLeft" fmla="*/ 423000 w 3384360"/>
              <a:gd name="textAreaRight" fmla="*/ 2961360 w 338436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edpověď chování Lorenzova model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2389320"/>
            <a:ext cx="4038480" cy="2947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2440080"/>
            <a:ext cx="40384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edpověď chování Lorenzova model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2440080"/>
            <a:ext cx="4038480" cy="2844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84680" y="2440080"/>
            <a:ext cx="396576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klad předpovědi teplotní ř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7694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edpověď minimální denní teploty, Praha-Ruzyně, 1 den vpř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rekonstrukci fázového prostoru použito 10 různých řad z Č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24000" y="2421000"/>
          <a:ext cx="6661080" cy="443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0" y="2421000"/>
                    <a:ext cx="6661080" cy="44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ší možné aplik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lňování chybějících d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lineární down-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lineární redukce š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1:53:24Z</dcterms:created>
  <dc:creator>User</dc:creator>
  <dc:description/>
  <dc:language>en-US</dc:language>
  <cp:lastModifiedBy>User</cp:lastModifiedBy>
  <dcterms:modified xsi:type="dcterms:W3CDTF">2004-03-03T02:34:05Z</dcterms:modified>
  <cp:revision>4</cp:revision>
  <dc:subject/>
  <dc:title>chaos a počasí</dc:title>
</cp:coreProperties>
</file>