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26F-5ECF-4236-904F-28197E887F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ožn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549-498C-4215-9C15-27CF9B65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27B-C7B6-4D7D-A520-A344BF5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19D-C567-4106-A43D-58EBBC3C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E58-2247-4090-BAD1-230FC28C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09E-32D2-4B1D-81F9-548BADB7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8E4-20FA-4A7D-8509-6385993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406-90BE-4D96-A56F-5276012E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C82-198B-4087-8494-4CDFDA6A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38F-8BD0-4090-B7BF-51C00295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879-E11C-443B-9C13-191E6B6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4CC-F393-4AF3-90D9-322F14C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C38-57EE-4CC0-BEF1-88B6CDC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A67-4F50-4828-9681-6E18401D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énáře vzniku cha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větlení způsobu přechodu systému od pravidelnému chování k chaotick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ěkolik univerzálních cest vzniku chaosu pro velmi  odlišné systémy – ? důvod proč je studu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dící parametr (např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logistickém zobrazení) měníme „pomalu“ – jde nám o popsání dlouhodobého chování, tzn. čekáme až se chování ustá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známe-li typ přechodu k chaosu pro daný systé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žnost kvalitativní nebo kvantitativní předpovědi dalšího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58972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4292640"/>
            <a:ext cx="770400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2 velké kategorie přechodu k chaotickému ch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. přes lokální bifurkace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í se stabilitou PB nebo LC; možno analyzovat prostřednictvím lokálního chování DS v blízkosti PB nebo LC – tedy Poincarého řez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I. přes globální bifurkace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ýkají se rozsáhlejších oblastí FP a zahrnují změny v oblastech homoklinických nebo heteroklinických 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FA3-1DAF-49CC-AF4D-254909AA26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620640"/>
            <a:ext cx="734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raniční kri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kolize chaotického atraktoru a nestabilním objektem, který je vně jeho oblasti přitaž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íkl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logistická rovnice př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4: chat. atrak. koliduje s nestab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vným bodem 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jektorie 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 oblasti &lt;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guje k 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2280" y="3068640"/>
            <a:ext cx="4221000" cy="3376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324468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tisymetrické logist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508720" y="3789360"/>
          <a:ext cx="236052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789360"/>
                    <a:ext cx="2360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64000" y="4365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koli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hao. atraktoru s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NEStab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evným bod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0 př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276720" y="4653000"/>
            <a:ext cx="20872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5661000"/>
            <a:ext cx="338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hraniční kri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,8284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u už nepřežije a miz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356000" y="5805360"/>
            <a:ext cx="1008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E1B-A33A-49BF-81BA-86AD3A136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09960" y="549360"/>
            <a:ext cx="5067000" cy="40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0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ze spojující atrak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5589720"/>
          <a:ext cx="25416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5589720"/>
                    <a:ext cx="2541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859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,6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24360" y="4149720"/>
            <a:ext cx="86544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18D-2229-4A9F-8F08-455D2D2320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77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énáře vzniku cha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785988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. Lokální bifur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. Zdvojování peri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. Kvaziperiodi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. Střídavý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I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lobální bifur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. Metastabilní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. K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00" y="4076640"/>
            <a:ext cx="88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znám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tava může podléhat několika scénářům přechodu k chaosu (pro různé intervaly řídících parametrů), např. Lorenzův systém: střídavý chaos i metastabilní ch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tím neumíme předpovědět, jaký typ přechodu se bude realiz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C7F-7118-46CD-A5BB-B777DA5FB6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A. zdvojnásobování peri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484280"/>
            <a:ext cx="828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z logist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ěníme řídicí paramet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ostupně se generují periodické trajektorie s peri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ch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jčastěji pozorovaný typ přechodu k chaosu při počítačových simul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6160" y="3429000"/>
            <a:ext cx="4170240" cy="33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8E3-A8CB-412E-8388-BD2439B48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.B. kvaziperiodicit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700280"/>
            <a:ext cx="8064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klasická představa vzniku turbulence: Landau, Lifšic – 5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mitného cyklu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(změna řídícího parametr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ová nezávislá perioda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(změna řídícího parametr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ová nezávislá perioda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měrném invariantním toru, kd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„velmi“ velké vypadá komplik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výhody tohoto přístupu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urbulence až v přípa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odpovídá zkušenosti (chaos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vyklý už při od 3-D pro spojité DS a 1-D pro diskrétní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hyb na toru není citlivý na volbu poč. podmínek, tzn. chybí 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ergence blízkých trajek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828-FEC1-474D-B14D-1A9C9FE8D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vize přístupu: Ruelle, Takens (197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os může nastat už po konečném počtu bifurkací tor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je zapříčiněn existencí podivného atraktroru v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podivný atr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zději Newhouse, Ruelle, Take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bifurkaci z 2-D toru na 3-D torus libovolná perturbace způsobí přesu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jektorie z 3-D toru na podivný atr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odivný atr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19700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130560"/>
            <a:ext cx="0" cy="647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ndau, Lifšic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problem of turb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elle, Taken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nature of turb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269-298E-4697-9E9B-262425708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.C. střídavý chaos (intermitence)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meau, Manneville, 19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2200" y="1557360"/>
            <a:ext cx="864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lišné chování od předešlých scénářů: dosud chování bylo buď zcela pravidelné, nebo zcela chaotic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pravidelné erupce chaotického chování proložené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mě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avidelným chování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řídaní laminární a turbulentní f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změny řídícího parametru: zkracování laminární fáze, prodlužování turbulentní, až při určité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minární fáze zcela zmi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152960"/>
            <a:ext cx="5760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 jaký typ bifurkace intermiten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rovází, je možné dělení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typ: tangenciální bifur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typ: Hopfova bifur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typ: zdvojování peri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274-F5C9-4B47-A23F-62DEB9209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interm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4800" y="1628640"/>
            <a:ext cx="4038480" cy="288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291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797360"/>
            <a:ext cx="395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ence u logist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ho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8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724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mitence u Lorenzova systému. 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načí čas mezi po sobě nulovými hodnotami intenzity konv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941-D6FD-416A-B441-04E886153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A. metastabilní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4800" y="112536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038840" cy="3230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4437000"/>
            <a:ext cx="8675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orenzův 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stejné poč. podmínky (-10, 10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=23    (mezi 13,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24,0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chaotocká množina, která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není atraktore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r=23 – 300 oscilací z, při r=23,5 – 24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cilací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=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4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63817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znám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ní to „ten správný“ ch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6F-47EC-41BD-8FB9-FC45D209A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B. K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560" y="134136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otický atraktor při změně paramet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áhle zmizí (objeví se)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raniční kr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okem změní svou velikost nebo tv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nitřní kr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141720"/>
            <a:ext cx="4414680" cy="353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003640" y="3429000"/>
            <a:ext cx="4140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nitřní krize u logistické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NEStab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b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oblasti přitaž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koli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haot. atraktoru a nestabilní orbit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ot. atraktor se skokem rozpr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 na větší oblast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5805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,8568 – vnitřní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634920" y="5013360"/>
            <a:ext cx="1584360" cy="936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CA7-0A3E-4934-B733-C79019007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7:52:39Z</dcterms:created>
  <dc:creator>User</dc:creator>
  <dc:description/>
  <dc:language>en-US</dc:language>
  <cp:lastModifiedBy>User</cp:lastModifiedBy>
  <dcterms:modified xsi:type="dcterms:W3CDTF">2004-03-03T00:22:38Z</dcterms:modified>
  <cp:revision>12</cp:revision>
  <dc:subject/>
  <dc:title>scénáře vzniku chaosu</dc:title>
</cp:coreProperties>
</file>