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886E-255B-4253-AAFE-12B777C0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1D88-1647-4229-81D7-0A42C3AC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3B89-8C35-42B2-BFCF-6C0031710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0D5D-1429-4ACB-8926-E532F7FE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4E3-F8E3-4021-8712-B278C69C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897-580F-426D-B7F1-EE7179CD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0A5E-E2A3-49A2-8D26-4FA3B57C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2DE3-03D6-4C98-8E14-DC8FA6A4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8FE8-4C59-4797-B4AD-CD33CECC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CEFF-1C03-4B9D-8E25-AF680D69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A15A-CD3C-4814-A9CE-D183BFC8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8091-3874-444B-8696-2BEB5BC5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CD31-8113-4A76-98CB-A4D6D6431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Geofyzikalni_prezentace_2_kvantifikace.ppt#Slide 3" TargetMode="External"/><Relationship Id="rId2" Type="http://schemas.openxmlformats.org/officeDocument/2006/relationships/hyperlink" Target="file:///Geofyzikalni_prezentace_2_kvantifikace.ppt#Slide 3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Ljapunovovy</a:t>
            </a:r>
            <a:r>
              <a:rPr b="0" lang="cs-CZ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exponen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42720" y="2133720"/>
            <a:ext cx="6172200" cy="4093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1728720" y="2195640"/>
            <a:ext cx="3400560" cy="359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49360" y="687708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2280" y="7020000"/>
            <a:ext cx="223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20640" y="6877080"/>
                <a:ext cx="16621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t</m:t>
                        </m:r>
                        <m:r>
                          <m:t xml:space="preserve">→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t xml:space="preserve">l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3429000" y="6877080"/>
            <a:ext cx="27367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je délk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té hlavní poloosy elipsoidu v čas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49360" y="7740720"/>
            <a:ext cx="453528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chaos je nutné, aby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ipativní systémy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03:40:08Z</dcterms:created>
  <dc:creator>User</dc:creator>
  <dc:description/>
  <dc:language>en-US</dc:language>
  <cp:lastModifiedBy>User</cp:lastModifiedBy>
  <dcterms:modified xsi:type="dcterms:W3CDTF">2004-03-03T01:41:15Z</dcterms:modified>
  <cp:revision>5</cp:revision>
  <dc:subject/>
  <dc:title>Ljapunovovy exponenty</dc:title>
</cp:coreProperties>
</file>